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9BA-6F25-4DF4-8FC8-C7ABECBD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4C1-0FC9-486A-94F3-BCB524F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1F7-2291-4F17-AD6B-E55126C6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CD1-FFED-4326-9274-99697165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973D-3A7C-471B-A984-6448319B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176F-C48D-4972-B228-E37AD4A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50E2-6EED-45CB-B14E-1027C6E5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C790-A32B-4D36-A459-9E6B3A0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2A8E-0B4B-41C6-81F4-5C267E1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424-1F17-4EF9-843C-D874126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F76D-6CAD-42C8-897A-E81FF2E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310-AEC2-48C7-B327-CE84FD77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E173-2AD3-4088-9644-CAE8647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E0E5-BEA8-45AE-BD87-97DB98C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95C6-ED6D-4F8A-B767-72EDD114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85D1-0B45-4765-911D-71B5D185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E9C-14C7-4DEF-8ED1-E2304B1A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28D-4164-482A-BD72-F0C24C6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120-0F26-4F4A-A745-38D2897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2C4-7FF4-4927-AEFF-C227010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09F-9E4A-4CE9-BF49-74615020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89A-F0C2-4299-BBA8-415B736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E7A-F5D8-48BA-A9BF-347F45B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474-F3A7-4762-A1FE-27FD41B9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8DE5-C3C3-458C-9EEB-9C7A16FDFA91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27F-3D6D-48AB-8C2B-2208CE62DDD5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esent perf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ords and guessing gam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m 1: time how long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Eat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Sing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Runn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Jump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Fly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Draw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Kiss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Stan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f448"/>
                </a:solidFill>
                <a:latin typeface="Arial"/>
              </a:rPr>
              <a:t>Rea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2843280" y="1484280"/>
            <a:ext cx="4897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m 2 : time how lo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Stand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Jump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Ea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Look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Sing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Runn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Fly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0cea"/>
                </a:solidFill>
                <a:latin typeface="Arial"/>
              </a:rPr>
              <a:t>Kiss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3708360" y="1052640"/>
            <a:ext cx="34560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verbs :turn aroun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0f448"/>
                </a:solidFill>
                <a:latin typeface="Arial"/>
              </a:rPr>
              <a:t>Eating happil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0f448"/>
                </a:solidFill>
                <a:latin typeface="Arial"/>
              </a:rPr>
              <a:t>Drinking  loudl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10:30:03Z</dcterms:created>
  <dc:creator>微软中国</dc:creator>
  <dc:description/>
  <dc:language>en-US</dc:language>
  <cp:lastModifiedBy>edu1</cp:lastModifiedBy>
  <dcterms:modified xsi:type="dcterms:W3CDTF">2014-04-13T00:26:36Z</dcterms:modified>
  <cp:revision>2</cp:revision>
  <dc:subject/>
  <dc:title>Present perfect</dc:title>
</cp:coreProperties>
</file>